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6F0-4CF0-4707-9EC7-9690DAC0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179-1386-4BA5-9EF6-7FB5CA65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1294E-DEE7-452E-B4C6-B1FB46DF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957E3-5346-4782-A830-4D34874F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BF43A-F49B-4982-B7B0-97565E47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4D5AC-372D-4C16-9C4C-E26387B8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4CF95-96D9-4F9C-BBB9-A18C483E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9C949-6288-44A9-A3D4-F471B8E3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8CCFD-0611-453C-A551-AB852E64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40BDC-56AD-4118-BE4D-A2287C83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BAC4A-F782-4168-88E7-58E9F83E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F9575-FCD7-459D-9F29-CD7B17BA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EAD-9C6D-42BD-880B-E86E3ACE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9FBE1-A73A-457A-A5A5-6CD504DD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C5D90-D332-42CA-B38F-4AFC2599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21FB6-391F-46BA-A242-52C2E3E3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41B61-D00F-4923-8FCC-726D7334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F7ECF-DE25-424B-A700-47E9996E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7B4FB-0880-42B5-B323-D37A6F71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D2331-FF13-4107-A46F-52C24EFD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D58A1-6F6D-4E81-B644-EB5823F5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9CA49-A179-458A-BB61-EA59EBDB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FE441-242C-49A6-9E20-F2127C9C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0C7-CDDD-4B53-86AD-17D1BE1E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319B3-84E4-4C31-9D06-0A09A8C8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C5A13-9705-47C4-BDF0-BB4371F3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78450-7456-4898-B2B8-75FBF128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6173B-8395-4956-BCD9-775B29ED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444C4-6C4E-40E3-AD93-B19BAC7B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A2311-F72B-40D7-B35B-65631571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35977-F972-4510-BE04-E9F56C09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C4CF4-B23D-4965-91EF-6C98613B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5F2C4-8FE2-4FF0-8768-BFFA3814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D67C9-B4A6-48F3-A64E-ADCD74FB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9B1C-13E1-4A6A-A375-44027B18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D9DEA-DE8D-49FD-877C-4A63CDE5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4CFA8-E236-42EF-BB27-E8E24F18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66A67-5BA4-4CAD-898A-A4ACDA05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98116-1570-41C8-A6A4-C30A9B24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A2BA5-2FE4-4AA8-834B-F03E4898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CB7F4-0883-4B01-80F4-451C218D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53AAF-A990-4F02-9A5A-BDFA6194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86FD7-CE05-4A1F-A175-51F375AC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0ED4B-1FF8-4CD3-80D5-8E478102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4FD69-E959-4500-A824-E6491B5B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97A6-A4AC-4EB8-9376-4ACF1897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342E9-1C94-4ADA-8A37-6BB01C52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F2431-A7B6-4046-AC5D-4B2E8E8E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8469A-4189-464E-98A3-134B1707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A96D3-ABE3-4F12-A056-75C0790A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32C7E-87B9-4067-9AD1-C26E8161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398E-46C2-49AE-89BC-C465C714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85A7-2266-429F-B8AB-D92198B4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7A70-EB0D-4CFE-BA5B-277891DE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503A-8132-42A3-B0FF-1F2CC2BC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DEE6-68F9-4B32-ADF0-F01AE02F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74C-EDEC-471E-8799-E3E6DD2E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4E78-89F6-43A2-82FE-715C7649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5565-EEB4-4133-A35A-D82155DC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9789-9215-4CFD-BB3B-FEEBBBD8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4A75-61A3-403E-BB3C-E7A72FF3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24FA-3D94-4609-AACE-6252631F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F551-038E-4057-A9EB-D1F8C7FA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D8FBE-C08A-4C7F-8E2A-FB748D4E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52E0B-7AB9-4737-BA11-5BA33D99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8DDFF-150D-4BD1-99C4-BE490C10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83638-470C-4D8B-AC4C-F3AB46C5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96D-989B-4189-97E4-EF8B72B6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D18F2-083B-4520-AD5C-F2078071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29CEF-125A-4CC7-BCE9-22438587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B11ED-BF76-425C-B3B7-CF8FF6C8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BEBA1-3792-414B-8194-3EFB0D08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2661B-163F-4A48-BB06-E659C061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4FEDB-87A3-42AC-939B-09A61248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1FC2C-3122-49FF-A1A4-EEDA3B73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EA49E-B182-4C96-9F1B-C087814F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64AE1-A29A-4482-9B57-59369FCC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E9A8D-4F87-4B42-8C31-3C968412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049-917D-494A-B809-DC4CEB2B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9157D-38F7-4E5C-993E-FB92CBE8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7F155-FD78-4EA1-9C79-60BE1AAB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C52E7-1D38-4C95-8735-72E7991E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93328-3FE6-4C31-91FF-58EB80BB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8B0E7-F461-44A4-9231-F4F52373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6A9B6-9DFC-4806-AFEC-A43BFAE4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591D0-3E34-4254-B65B-41ACB326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AB2C9-3A14-4119-9865-92461B72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DD104-11DA-4247-806A-332D1029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2B181-D038-4F0D-851B-016981DC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A8C-40F2-415D-946E-19BB2F72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58793-5DE7-4E65-9F1F-AFB292A9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DBCEA-7D02-43CB-B3F3-B1B6009E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C0BB8-75F0-4AA4-ADA2-D34424F7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4079F-DB57-4BE9-A5D2-2422D7C4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1FC25-6BA9-4680-90D2-8968C62E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EA147-D7B6-46B6-BFC8-992264E0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A46A0-4D61-461A-875D-460DCE81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0D581-0E74-480A-88BE-9B24AF90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9A605-CFAE-4A66-9719-09935C4A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41DC9-9A06-4F46-8268-0065D642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A71-582B-4339-8269-EF193D60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35321-D189-4725-8BA5-D9ACD06A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E930F-CCF4-4E52-AFEA-63A241DE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18703-1164-4B28-BCA8-808E6578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67CC7-75DC-44CC-BD9E-6CCE3A15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A3EDC-6841-4F21-9E5C-7922E355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C68AF-E963-408C-93C6-53923178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1DA95-85AD-4B75-BAC3-6BC82ECA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1E191-2727-47F4-B18C-C1427522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7ECA2-63D3-4218-915A-5CA10CFC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05310-9C73-456D-AFE7-8E5EEE90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297-4339-4B06-AADA-74CFADBA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620A4-740C-4428-BB95-32D81940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0D712-2641-455A-9B2E-1C635F48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4DC11-1535-4552-9309-BC5A0FA5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D128F-DBB7-40CF-AB48-20B4388D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DF940-43D9-40A0-B78E-FF1299F0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90419-C82C-476F-8BAD-77081F51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A8A88-EA62-42ED-B26E-4504EBE7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D5A59-42AD-4E16-8869-1DD3735C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4226C-2C43-4773-BAD3-9938490B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79A0E-6940-4315-B0AF-75438E91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364-A34E-455B-9193-99C8688E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C2497-F700-4DAF-B4BD-F507ED44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3FFCD-0B57-4928-8BD9-049C7C87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6288A-8A7E-4933-BBA6-C1D15504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D9BB3-7F74-4865-8574-6B97F8E5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15A2B-F717-423E-8DAF-02CEB208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73173-6C1B-4BCF-8B05-D22CA88E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F2546-FD95-4901-81EB-127F49A9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5953E-407A-456F-9585-98D80656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EF21E-0A61-4200-8899-DE1F9039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5CA7F-4B68-4634-AC4C-7DC78979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476-1FB3-49F2-9F00-B6FDD0BB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EDE75-346B-46E7-93DF-7D623ACE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1FAAB-EB33-4F0C-955A-B82EC68D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7B897-4799-43ED-B46A-DEAF0125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9970E-88CB-4169-99DD-65872FE0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88714-DCB1-40DA-96B4-FA39F93C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21DBE-8FC7-4840-8C60-ED56A952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53B17-CA89-4E32-B19C-9A533606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D8D69-56DC-4116-9B26-1D5FDD5E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25E4D-563F-405A-B2E3-83CCA5D2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9A64B-B495-4C74-A51E-68F0666A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9CE7-10FE-462B-AFAF-BC54411D46F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E3CB-41B3-4547-90E5-8FC06B2E125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AFE4-85C9-46A1-8CE3-43256087CC0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1E0C-B878-4D43-AC3A-DD35E19E771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57FE-D60B-4205-BD25-925D98DE124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F32D-FFBF-40C4-808B-E2894B7EE7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64D8-87D3-478B-BEEE-B9806F740C3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2358-DF3B-47B3-B0A2-86DCFB6B15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485F-984B-42A1-9CA8-FFDC64A3C78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E16D-2F74-4300-94C6-F712AA5773A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2E3A-BC73-42B6-B86B-6E19B708557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6B0D-1FBA-4CA5-AFE1-AD689B66D29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87 Na slávu Tvorcu svoj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slávu Tvorcu svoj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siedmy svätí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pred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ou B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u moc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a v úcte korí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sobotný nám pripravil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tú najkrajšiu zo všetkýc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 chví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pievajme, jasa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Bohu vzdávajme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Pánov pre ná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k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blaho zname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 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m odp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nok nájd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y duša znavená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sobotný nám pripravil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tú najkrajšiu zo všetkýc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 chví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pievajme, jasa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Bohu vzdávajme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Pánov dokonané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m dielo zvest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ad k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ým skutkom Tvorc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a srdce raduje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sobotný nám pripravil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tú najkrajšiu zo všetkýc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 chví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pievajme, jasa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Bohu vzdávajme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už na tejto zem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Pánov vzácny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ým vzácnejší nám bud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o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j ot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n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sobotný nám pripravil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tú najkrajšiu zo všetkýc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 chví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pievajme, jasa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Bohu vzdávajme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08:33Z</dcterms:modified>
  <cp:revision>23</cp:revision>
  <dc:subject/>
  <dc:title>Je veľký náš Pán, on slávy je Kráľ Nech do všetkých strán  spev vrúcnych znie chvál.</dc:title>
</cp:coreProperties>
</file>